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gif" ContentType="image/gif"/>
  <Override PartName="/ppt/media/wind.wav" ContentType="audio/x-wav"/>
  <Override PartName="/ppt/media/camera.wav" ContentType="audio/x-wav"/>
  <Override PartName="/ppt/media/image1.gif" ContentType="image/gif"/>
  <Override PartName="/ppt/media/cashreg.wav" ContentType="audio/x-wav"/>
  <Override PartName="/ppt/media/image8.gif" ContentType="image/gif"/>
  <Override PartName="/ppt/media/image2.jpeg" ContentType="image/jpeg"/>
  <Override PartName="/ppt/media/image3.png" ContentType="image/png"/>
  <Override PartName="/ppt/media/coin.wav" ContentType="audio/x-wav"/>
  <Override PartName="/ppt/media/breeze.wav" ContentType="audio/x-wav"/>
  <Override PartName="/ppt/media/applause.wav" ContentType="audio/x-wav"/>
  <Override PartName="/ppt/media/image7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A58-11DF-4120-BAD5-94A7310E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3F4-766E-4663-AC95-F4B6510E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DC3-0D92-4C5A-9DBC-C6FA4C74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528-D978-4F00-9D6D-A6CE92DE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36D-CC02-4578-B85B-274BA7C0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8B7-3614-4D5F-8435-2936ED87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48B-85B9-4082-92E5-68325F7D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3F8-9FEF-4153-92B5-ACEA5051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570-070B-448D-9567-8CCD146F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9D9-7B33-474E-996A-5E9B0C31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486-E89F-41AE-99E8-1CE97204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09C-CED0-4BD5-8FE3-C731CCEC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B138-A70D-44D9-8A12-8531ABDE6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Alexander_Graham_Bell.jpg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9200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ff"/>
                </a:solidFill>
                <a:latin typeface="Forte"/>
              </a:rPr>
              <a:t>A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l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e</a:t>
            </a:r>
            <a:r>
              <a:rPr b="0" lang="en-US" sz="6000" spc="-1" strike="noStrike">
                <a:solidFill>
                  <a:srgbClr val="0000cc"/>
                </a:solidFill>
                <a:latin typeface="Forte"/>
              </a:rPr>
              <a:t>x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a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n</a:t>
            </a:r>
            <a:r>
              <a:rPr b="0" lang="en-US" sz="6000" spc="-1" strike="noStrike">
                <a:solidFill>
                  <a:srgbClr val="6699ff"/>
                </a:solidFill>
                <a:latin typeface="Forte"/>
              </a:rPr>
              <a:t>d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e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r</a:t>
            </a:r>
            <a:r>
              <a:rPr b="0" lang="en-US" sz="6000" spc="-1" strike="noStrike">
                <a:solidFill>
                  <a:srgbClr val="6699ff"/>
                </a:solidFill>
                <a:latin typeface="Forte"/>
              </a:rPr>
              <a:t> </a:t>
            </a:r>
            <a:r>
              <a:rPr b="0" lang="en-US" sz="6000" spc="-1" strike="noStrike">
                <a:solidFill>
                  <a:srgbClr val="0000cc"/>
                </a:solidFill>
                <a:latin typeface="Forte"/>
              </a:rPr>
              <a:t>G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r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a</a:t>
            </a:r>
            <a:r>
              <a:rPr b="0" lang="en-US" sz="6000" spc="-1" strike="noStrike">
                <a:solidFill>
                  <a:srgbClr val="6699ff"/>
                </a:solidFill>
                <a:latin typeface="Forte"/>
              </a:rPr>
              <a:t>h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a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m </a:t>
            </a:r>
            <a:r>
              <a:rPr b="0" lang="en-US" sz="6000" spc="-1" strike="noStrike">
                <a:solidFill>
                  <a:srgbClr val="0000cc"/>
                </a:solidFill>
                <a:latin typeface="Forte"/>
              </a:rPr>
              <a:t>B</a:t>
            </a:r>
            <a:r>
              <a:rPr b="0" lang="en-US" sz="6000" spc="-1" strike="noStrike">
                <a:solidFill>
                  <a:srgbClr val="3333ff"/>
                </a:solidFill>
                <a:latin typeface="Forte"/>
              </a:rPr>
              <a:t>e</a:t>
            </a:r>
            <a:r>
              <a:rPr b="0" lang="en-US" sz="6000" spc="-1" strike="noStrike">
                <a:solidFill>
                  <a:srgbClr val="3366ff"/>
                </a:solidFill>
                <a:latin typeface="Forte"/>
              </a:rPr>
              <a:t>l</a:t>
            </a:r>
            <a:r>
              <a:rPr b="0" lang="en-US" sz="6000" spc="-1" strike="noStrike">
                <a:solidFill>
                  <a:srgbClr val="6699ff"/>
                </a:solidFill>
                <a:latin typeface="Forte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Forte"/>
              </a:rPr>
              <a:t>He was a scientist and invent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4000" y="981000"/>
          <a:ext cx="7416720" cy="4614840"/>
        </p:xfrm>
        <a:graphic>
          <a:graphicData uri="http://schemas.openxmlformats.org/drawingml/2006/table">
            <a:tbl>
              <a:tblPr/>
              <a:tblGrid>
                <a:gridCol w="3708360"/>
                <a:gridCol w="370836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Bauhaus 93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Bauhaus 93"/>
                        </a:rPr>
                        <a:t>Alexander Graham B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66ff"/>
                          </a:solidFill>
                          <a:latin typeface="Bauhaus 93"/>
                        </a:rPr>
                        <a:t>Date of his bir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Bauhaus 93"/>
                        </a:rPr>
                        <a:t>on March 3, 18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66ff"/>
                          </a:solidFill>
                          <a:latin typeface="Bauhaus 93"/>
                        </a:rPr>
                        <a:t>Date of his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Bauhaus 93"/>
                        </a:rPr>
                        <a:t>on August 2, 19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Bauhaus 93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Bauhaus 93"/>
                        </a:rPr>
                        <a:t>Edinburgh, Scot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  <p:sndAc>
      <p:stSnd>
        <p:snd r:embed="rId1" name="breez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Imagen:Alexander Graham Be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278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5400000">
            <a:off x="2914920" y="477000"/>
            <a:ext cx="5184720" cy="53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Alexander Graham Bell 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p:transition spd="slow">
    <p:cover dir="ld"/>
    <p:sndAc>
      <p:stSnd>
        <p:snd r:embed="rId3" name="coin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ff"/>
                </a:solidFill>
                <a:latin typeface="Forte"/>
              </a:rPr>
              <a:t>His most famous invent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ff"/>
                </a:solidFill>
                <a:latin typeface="Forte"/>
              </a:rPr>
              <a:t> </a:t>
            </a:r>
            <a:r>
              <a:rPr b="0" lang="es-ES" sz="3200" spc="-1" strike="noStrike">
                <a:solidFill>
                  <a:srgbClr val="3366ff"/>
                </a:solidFill>
                <a:latin typeface="Forte"/>
              </a:rPr>
              <a:t>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1225440"/>
            <a:ext cx="7561440" cy="4173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applaus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Matura MT Script Capitals"/>
              </a:rPr>
              <a:t>Alexander Graham Bell died in Baddeck, Canada, August 2, 1922, when he was 75 years 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Matura MT Script Capitals"/>
              </a:rPr>
              <a:t>The invention of the telephone has been one of the biggest contributions of all the times to the world, because it transformed the political and social life; as well as tele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2"/>
    <p:sndAc>
      <p:stSnd>
        <p:snd r:embed="rId1" name="camera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3333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Bauhaus 93"/>
              </a:rPr>
              <a:t>By Mónica Poz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69040" y="4826160"/>
            <a:ext cx="1974960" cy="203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4957920"/>
            <a:ext cx="1900440" cy="190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492360" y="2349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54764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516564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6" name="wind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8:28:01Z</dcterms:created>
  <dc:creator>Alumno49</dc:creator>
  <dc:description/>
  <dc:language>en-US</dc:language>
  <cp:lastModifiedBy>Alumno49</cp:lastModifiedBy>
  <dcterms:modified xsi:type="dcterms:W3CDTF">2008-06-10T11:34:26Z</dcterms:modified>
  <cp:revision>4</cp:revision>
  <dc:subject/>
  <dc:title>Diapositiva 1</dc:title>
</cp:coreProperties>
</file>